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690E-9210-4C15-A75D-0E940EF60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A5CD-AD9B-440D-B6BE-36168657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F3B0-72D6-4A07-A776-FE111062A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90B5-5D37-47D4-97B6-62E2F6BA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4889-64F8-49EC-871C-71B60B74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4222-A428-4DF6-BBD5-5A3BB1F2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CDBB-B08C-41A0-B126-664C2508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C9FF-0F59-4CEE-AB4D-328CFA95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7063-545E-45B3-9902-C77A68BC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87BE-22B9-4A40-A3E3-FD36D186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97D6-DEE6-435B-A1B3-AE043659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336A-2BB2-494C-995B-C1E165B3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8D37AF-4489-480E-9C13-91F527054D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6BD600-4568-4467-9948-D19BEE2654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logo"/>
          <p:cNvPicPr/>
          <p:nvPr/>
        </p:nvPicPr>
        <p:blipFill>
          <a:blip r:embed="rId1"/>
          <a:stretch/>
        </p:blipFill>
        <p:spPr>
          <a:xfrm>
            <a:off x="1233360" y="365040"/>
            <a:ext cx="67755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5_Reusable_Container_Set___2_Packty4Detail.jpg"/>
          <p:cNvPicPr/>
          <p:nvPr/>
        </p:nvPicPr>
        <p:blipFill>
          <a:blip r:embed="rId1"/>
          <a:stretch/>
        </p:blipFill>
        <p:spPr>
          <a:xfrm>
            <a:off x="847800" y="1228680"/>
            <a:ext cx="6345000" cy="4759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847800" y="829800"/>
            <a:ext cx="75009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I reuse containers while buying bulk 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save raw materials, and reduce was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Content Placeholder 4" descr="400_F_13785071_1sHkxUZQk3fGrzr49ENWa6g0fS1lwqwo.jpg"/>
          <p:cNvPicPr/>
          <p:nvPr/>
        </p:nvPicPr>
        <p:blipFill>
          <a:blip r:embed="rId1"/>
          <a:srcRect l="-48280" t="0" r="-48280" b="0"/>
          <a:stretch/>
        </p:blipFill>
        <p:spPr>
          <a:xfrm>
            <a:off x="457200" y="468360"/>
            <a:ext cx="10985400" cy="604188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457200" y="777960"/>
            <a:ext cx="2979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ould become an environmental superh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potential of your environmental handpri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6"/>
          <p:cNvSpPr/>
          <p:nvPr/>
        </p:nvSpPr>
        <p:spPr>
          <a:xfrm>
            <a:off x="3774960" y="557280"/>
            <a:ext cx="1052640" cy="82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duce w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7"/>
          <p:cNvSpPr/>
          <p:nvPr/>
        </p:nvSpPr>
        <p:spPr>
          <a:xfrm>
            <a:off x="7170840" y="468360"/>
            <a:ext cx="998280" cy="72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ycle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8"/>
          <p:cNvSpPr/>
          <p:nvPr/>
        </p:nvSpPr>
        <p:spPr>
          <a:xfrm>
            <a:off x="7346880" y="3122640"/>
            <a:ext cx="1379520" cy="98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reusable contai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9"/>
          <p:cNvSpPr/>
          <p:nvPr/>
        </p:nvSpPr>
        <p:spPr>
          <a:xfrm>
            <a:off x="7245360" y="5560920"/>
            <a:ext cx="824040" cy="824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y 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10"/>
          <p:cNvSpPr/>
          <p:nvPr/>
        </p:nvSpPr>
        <p:spPr>
          <a:xfrm>
            <a:off x="3462480" y="3286080"/>
            <a:ext cx="1160280" cy="82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de your b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11"/>
          <p:cNvSpPr/>
          <p:nvPr/>
        </p:nvSpPr>
        <p:spPr>
          <a:xfrm>
            <a:off x="3462480" y="5599080"/>
            <a:ext cx="1643040" cy="78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ar second hand clot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logo"/>
          <p:cNvPicPr/>
          <p:nvPr/>
        </p:nvPicPr>
        <p:blipFill>
          <a:blip r:embed="rId1"/>
          <a:stretch/>
        </p:blipFill>
        <p:spPr>
          <a:xfrm>
            <a:off x="1611360" y="374760"/>
            <a:ext cx="6773760" cy="6021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wildsightlogo"/>
          <p:cNvPicPr/>
          <p:nvPr/>
        </p:nvPicPr>
        <p:blipFill>
          <a:blip r:embed="rId2"/>
          <a:stretch/>
        </p:blipFill>
        <p:spPr>
          <a:xfrm>
            <a:off x="0" y="4051440"/>
            <a:ext cx="1766880" cy="2590560"/>
          </a:xfrm>
          <a:prstGeom prst="rect">
            <a:avLst/>
          </a:prstGeom>
          <a:ln w="0">
            <a:noFill/>
          </a:ln>
        </p:spPr>
      </p:pic>
      <p:sp>
        <p:nvSpPr>
          <p:cNvPr id="91" name="Subtitle 2"/>
          <p:cNvSpPr/>
          <p:nvPr/>
        </p:nvSpPr>
        <p:spPr>
          <a:xfrm>
            <a:off x="1746360" y="58532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ww.beyondrecycling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handprint1133.jpg"/>
          <p:cNvPicPr/>
          <p:nvPr/>
        </p:nvPicPr>
        <p:blipFill>
          <a:blip r:embed="rId1"/>
          <a:stretch/>
        </p:blipFill>
        <p:spPr>
          <a:xfrm>
            <a:off x="1209600" y="-396720"/>
            <a:ext cx="7248600" cy="7994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180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c0504d"/>
                </a:solidFill>
                <a:latin typeface="Calibri"/>
              </a:rPr>
              <a:t>My Eco Handprin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157560" y="56055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www.beyondrecycling.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7"/>
          <p:cNvSpPr/>
          <p:nvPr/>
        </p:nvSpPr>
        <p:spPr>
          <a:xfrm>
            <a:off x="5411880" y="1135080"/>
            <a:ext cx="31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measure the impact we are having on our Earth with the……..?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5411880" y="4400640"/>
            <a:ext cx="31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easures our impact on the planet and its re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5411880" y="2725560"/>
            <a:ext cx="313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558ed5"/>
                </a:solidFill>
                <a:latin typeface="Arial"/>
              </a:rPr>
              <a:t>Ecological Footpr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footprint"/>
          <p:cNvPicPr/>
          <p:nvPr/>
        </p:nvPicPr>
        <p:blipFill>
          <a:blip r:embed="rId1"/>
          <a:stretch/>
        </p:blipFill>
        <p:spPr>
          <a:xfrm>
            <a:off x="258840" y="1135080"/>
            <a:ext cx="49305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handprint.gif"/>
          <p:cNvPicPr/>
          <p:nvPr/>
        </p:nvPicPr>
        <p:blipFill>
          <a:blip r:embed="rId1"/>
          <a:stretch/>
        </p:blipFill>
        <p:spPr>
          <a:xfrm>
            <a:off x="652320" y="1173240"/>
            <a:ext cx="4583160" cy="4473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560" y="1154160"/>
            <a:ext cx="362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measure the action we are taking to help our planet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335560" y="23637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5335560" y="3495600"/>
            <a:ext cx="340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58ed5"/>
                </a:solidFill>
                <a:latin typeface="Arial"/>
              </a:rPr>
              <a:t>Our Ecological Handpri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quantify what we do to tread lightly on the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 rot="19582200">
            <a:off x="7560360" y="2583000"/>
            <a:ext cx="872640" cy="581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74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3" descr="Green-handprint_Feb-27-735543.JPG"/>
          <p:cNvPicPr/>
          <p:nvPr/>
        </p:nvPicPr>
        <p:blipFill>
          <a:blip r:embed="rId1"/>
          <a:srcRect l="-40914" t="0" r="-40914" b="0"/>
          <a:stretch/>
        </p:blipFill>
        <p:spPr>
          <a:xfrm>
            <a:off x="2255760" y="85896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463680" y="628560"/>
            <a:ext cx="3446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</a:t>
            </a:r>
            <a:r>
              <a:rPr b="0" lang="en-US" sz="2800" spc="-1" strike="noStrike">
                <a:solidFill>
                  <a:srgbClr val="77933c"/>
                </a:solidFill>
                <a:latin typeface="Arial"/>
              </a:rPr>
              <a:t>Eco Hand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es 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you do to positively impact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s we take to improve the conditions for today and future gen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3" descr="handprint-green.gif"/>
          <p:cNvPicPr/>
          <p:nvPr/>
        </p:nvPicPr>
        <p:blipFill>
          <a:blip r:embed="rId1"/>
          <a:srcRect l="-48639" t="0" r="-48639" b="0"/>
          <a:stretch/>
        </p:blipFill>
        <p:spPr>
          <a:xfrm>
            <a:off x="0" y="784080"/>
            <a:ext cx="8229600" cy="452628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3195000" y="4254480"/>
            <a:ext cx="285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 Ecological Hand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1144440" y="4143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 flipH="1">
            <a:off x="490680" y="3281400"/>
            <a:ext cx="9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1936080" y="616896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6199200" y="6001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7085520" y="388620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ontent Placeholder 3" descr="images.jpg"/>
          <p:cNvPicPr/>
          <p:nvPr/>
        </p:nvPicPr>
        <p:blipFill>
          <a:blip r:embed="rId1"/>
          <a:srcRect l="-40904" t="0" r="-40904" b="0"/>
          <a:stretch/>
        </p:blipFill>
        <p:spPr>
          <a:xfrm>
            <a:off x="1584360" y="1835280"/>
            <a:ext cx="5683320" cy="3125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2666520" y="588960"/>
            <a:ext cx="3946680" cy="8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ally, we can…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Up Arrow 4"/>
          <p:cNvSpPr/>
          <p:nvPr/>
        </p:nvSpPr>
        <p:spPr>
          <a:xfrm>
            <a:off x="150840" y="1835280"/>
            <a:ext cx="3016080" cy="3125520"/>
          </a:xfrm>
          <a:prstGeom prst="upArrow">
            <a:avLst>
              <a:gd name="adj1" fmla="val 50000"/>
              <a:gd name="adj2" fmla="val 49996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wn Arrow 5"/>
          <p:cNvSpPr/>
          <p:nvPr/>
        </p:nvSpPr>
        <p:spPr>
          <a:xfrm>
            <a:off x="5661000" y="1835280"/>
            <a:ext cx="3219480" cy="31478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898560" y="2979720"/>
            <a:ext cx="147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 our handpr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6678720" y="2854440"/>
            <a:ext cx="125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rease our foot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9"/>
          <p:cNvSpPr/>
          <p:nvPr/>
        </p:nvSpPr>
        <p:spPr>
          <a:xfrm>
            <a:off x="1709640" y="5603040"/>
            <a:ext cx="5670720" cy="82548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otential of our handprint is unlimit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4" descr="A4E02458-00CE-4206-8B02DBD55B4851AF.jpg"/>
          <p:cNvPicPr/>
          <p:nvPr/>
        </p:nvPicPr>
        <p:blipFill>
          <a:blip r:embed="rId1"/>
          <a:srcRect l="-50000" t="0" r="-50000" b="0"/>
          <a:stretch/>
        </p:blipFill>
        <p:spPr>
          <a:xfrm rot="20256600">
            <a:off x="2419200" y="896400"/>
            <a:ext cx="8433000" cy="4526280"/>
          </a:xfrm>
          <a:prstGeom prst="rect">
            <a:avLst/>
          </a:prstGeom>
          <a:ln w="0">
            <a:noFill/>
          </a:ln>
        </p:spPr>
      </p:pic>
      <p:sp>
        <p:nvSpPr>
          <p:cNvPr id="71" name="Up Arrow 10"/>
          <p:cNvSpPr/>
          <p:nvPr/>
        </p:nvSpPr>
        <p:spPr>
          <a:xfrm>
            <a:off x="289080" y="1789200"/>
            <a:ext cx="2766960" cy="2549520"/>
          </a:xfrm>
          <a:prstGeom prst="up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wn Arrow 11"/>
          <p:cNvSpPr/>
          <p:nvPr/>
        </p:nvSpPr>
        <p:spPr>
          <a:xfrm>
            <a:off x="1874880" y="3332160"/>
            <a:ext cx="2900160" cy="22161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741240" y="744480"/>
            <a:ext cx="541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choice we make has an impact…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858960" y="2389320"/>
            <a:ext cx="159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can be positive, increase our handprint, and help our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2527200" y="5729400"/>
            <a:ext cx="3708360" cy="4597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hoice is up to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2527200" y="3373560"/>
            <a:ext cx="154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can be negative and increase our footprint and our impact on the 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Bus.jpg"/>
          <p:cNvPicPr/>
          <p:nvPr/>
        </p:nvPicPr>
        <p:blipFill>
          <a:blip r:embed="rId1"/>
          <a:stretch/>
        </p:blipFill>
        <p:spPr>
          <a:xfrm>
            <a:off x="779400" y="1093680"/>
            <a:ext cx="6654960" cy="4432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229680" y="403200"/>
            <a:ext cx="850932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I ride the bus instead of driv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support a mass-transit system, as well as reducing emissi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20:05:31Z</dcterms:created>
  <dc:creator>mullein</dc:creator>
  <dc:description/>
  <dc:language>en-US</dc:language>
  <cp:lastModifiedBy>mullein</cp:lastModifiedBy>
  <dcterms:modified xsi:type="dcterms:W3CDTF">2010-12-20T21:31:05Z</dcterms:modified>
  <cp:revision>7</cp:revision>
  <dc:subject/>
  <dc:title>EcoHandprint</dc:title>
</cp:coreProperties>
</file>