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C79-FF6E-4EC1-B95B-7CC2E2FB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968-184F-4387-8E23-82279DDD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6E6-EDE6-4AA5-9F33-FA458562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942-88E1-432B-A271-464E213F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FED-41C7-441D-9BD7-F23C1FB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E49-82EA-485C-BFDD-622A3900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DEE-EB69-4BDC-903E-6005CD12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302-61B0-4A9F-8FDA-937AA86B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1DA-A229-4AC9-AF8F-5FC9AE2D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9CF-2C78-478E-AEE8-D6E3FC2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5DD-FD8D-4734-BF5C-34116478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3E6-EAD8-4EF2-95EF-511DFA70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B121E-5CA2-4189-8244-F6F47BCEB1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37A87-C543-41E6-9B80-19B03A2F0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"/>
          <p:cNvPicPr/>
          <p:nvPr/>
        </p:nvPicPr>
        <p:blipFill>
          <a:blip r:embed="rId1"/>
          <a:stretch/>
        </p:blipFill>
        <p:spPr>
          <a:xfrm>
            <a:off x="1233360" y="365040"/>
            <a:ext cx="6775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5_Reusable_Container_Set___2_Packty4Detail.jpg"/>
          <p:cNvPicPr/>
          <p:nvPr/>
        </p:nvPicPr>
        <p:blipFill>
          <a:blip r:embed="rId1"/>
          <a:stretch/>
        </p:blipFill>
        <p:spPr>
          <a:xfrm>
            <a:off x="847800" y="1228680"/>
            <a:ext cx="634500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47800" y="829800"/>
            <a:ext cx="750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euse containers while buying bul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ve raw materials, and reduce w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400_F_13785071_1sHkxUZQk3fGrzr49ENWa6g0fS1lwqwo.jpg"/>
          <p:cNvPicPr/>
          <p:nvPr/>
        </p:nvPicPr>
        <p:blipFill>
          <a:blip r:embed="rId1"/>
          <a:srcRect l="-48280" t="0" r="-48280" b="0"/>
          <a:stretch/>
        </p:blipFill>
        <p:spPr>
          <a:xfrm>
            <a:off x="457200" y="468360"/>
            <a:ext cx="10985400" cy="6041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777960"/>
            <a:ext cx="297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become an environmental superh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potential of your environmental handpr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3774960" y="557280"/>
            <a:ext cx="105264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170840" y="468360"/>
            <a:ext cx="998280" cy="72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346880" y="3122640"/>
            <a:ext cx="1379520" cy="98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reusable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245360" y="5560920"/>
            <a:ext cx="824040" cy="82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0"/>
          <p:cNvSpPr/>
          <p:nvPr/>
        </p:nvSpPr>
        <p:spPr>
          <a:xfrm>
            <a:off x="3462480" y="3286080"/>
            <a:ext cx="1160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de your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1"/>
          <p:cNvSpPr/>
          <p:nvPr/>
        </p:nvSpPr>
        <p:spPr>
          <a:xfrm>
            <a:off x="3462480" y="55990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r second h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"/>
          <p:cNvPicPr/>
          <p:nvPr/>
        </p:nvPicPr>
        <p:blipFill>
          <a:blip r:embed="rId1"/>
          <a:stretch/>
        </p:blipFill>
        <p:spPr>
          <a:xfrm>
            <a:off x="1611360" y="374760"/>
            <a:ext cx="6773760" cy="60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wildsightlogo"/>
          <p:cNvPicPr/>
          <p:nvPr/>
        </p:nvPicPr>
        <p:blipFill>
          <a:blip r:embed="rId2"/>
          <a:stretch/>
        </p:blipFill>
        <p:spPr>
          <a:xfrm>
            <a:off x="0" y="4051440"/>
            <a:ext cx="1766880" cy="2590560"/>
          </a:xfrm>
          <a:prstGeom prst="rect">
            <a:avLst/>
          </a:prstGeom>
          <a:ln w="0">
            <a:noFill/>
          </a:ln>
        </p:spPr>
      </p:pic>
      <p:sp>
        <p:nvSpPr>
          <p:cNvPr id="91" name="Subtitle 2"/>
          <p:cNvSpPr/>
          <p:nvPr/>
        </p:nvSpPr>
        <p:spPr>
          <a:xfrm>
            <a:off x="1746360" y="5853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andprint1133.jpg"/>
          <p:cNvPicPr/>
          <p:nvPr/>
        </p:nvPicPr>
        <p:blipFill>
          <a:blip r:embed="rId1"/>
          <a:stretch/>
        </p:blipFill>
        <p:spPr>
          <a:xfrm>
            <a:off x="1209600" y="-396720"/>
            <a:ext cx="7248600" cy="7994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80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My Eco Handpr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57560" y="5605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7"/>
          <p:cNvSpPr/>
          <p:nvPr/>
        </p:nvSpPr>
        <p:spPr>
          <a:xfrm>
            <a:off x="5411880" y="1135080"/>
            <a:ext cx="31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easure the impact we are having on our Earth with the……..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411880" y="440064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sures our impact on the planet and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5411880" y="2725560"/>
            <a:ext cx="31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Arial"/>
              </a:rPr>
              <a:t>Ecological Footp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ootprint"/>
          <p:cNvPicPr/>
          <p:nvPr/>
        </p:nvPicPr>
        <p:blipFill>
          <a:blip r:embed="rId1"/>
          <a:stretch/>
        </p:blipFill>
        <p:spPr>
          <a:xfrm>
            <a:off x="258840" y="1135080"/>
            <a:ext cx="4930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andprint.gif"/>
          <p:cNvPicPr/>
          <p:nvPr/>
        </p:nvPicPr>
        <p:blipFill>
          <a:blip r:embed="rId1"/>
          <a:stretch/>
        </p:blipFill>
        <p:spPr>
          <a:xfrm>
            <a:off x="652320" y="1173240"/>
            <a:ext cx="4583160" cy="44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560" y="115416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easure the action we are taking to help our plane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560" y="2363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35560" y="349560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</a:rPr>
              <a:t>Our Ecological Hand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quantify what we do to tread lightly o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 rot="19582200">
            <a:off x="7560360" y="2583000"/>
            <a:ext cx="872640" cy="581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Green-handprint_Feb-27-735543.JPG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2255760" y="85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63680" y="628560"/>
            <a:ext cx="344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Eco Hand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do to positively impac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we take to improve the conditions for today and future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handprint-green.gif"/>
          <p:cNvPicPr/>
          <p:nvPr/>
        </p:nvPicPr>
        <p:blipFill>
          <a:blip r:embed="rId1"/>
          <a:srcRect l="-48639" t="0" r="-48639" b="0"/>
          <a:stretch/>
        </p:blipFill>
        <p:spPr>
          <a:xfrm>
            <a:off x="0" y="7840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195000" y="425448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Ecological Hand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4440" y="414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490680" y="3281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36080" y="6168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99200" y="60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08552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images.jpg"/>
          <p:cNvPicPr/>
          <p:nvPr/>
        </p:nvPicPr>
        <p:blipFill>
          <a:blip r:embed="rId1"/>
          <a:srcRect l="-40904" t="0" r="-40904" b="0"/>
          <a:stretch/>
        </p:blipFill>
        <p:spPr>
          <a:xfrm>
            <a:off x="1584360" y="1835280"/>
            <a:ext cx="5683320" cy="312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666520" y="588960"/>
            <a:ext cx="394668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we can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4"/>
          <p:cNvSpPr/>
          <p:nvPr/>
        </p:nvSpPr>
        <p:spPr>
          <a:xfrm>
            <a:off x="150840" y="1835280"/>
            <a:ext cx="3016080" cy="312552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5"/>
          <p:cNvSpPr/>
          <p:nvPr/>
        </p:nvSpPr>
        <p:spPr>
          <a:xfrm>
            <a:off x="5661000" y="1835280"/>
            <a:ext cx="3219480" cy="3147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2979720"/>
            <a:ext cx="147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ur hand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678720" y="2854440"/>
            <a:ext cx="125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our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709640" y="5603040"/>
            <a:ext cx="5670720" cy="825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tential of our handprint is unlimi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4" descr="A4E02458-00CE-4206-8B02DBD55B4851AF.jpg"/>
          <p:cNvPicPr/>
          <p:nvPr/>
        </p:nvPicPr>
        <p:blipFill>
          <a:blip r:embed="rId1"/>
          <a:srcRect l="-50000" t="0" r="-50000" b="0"/>
          <a:stretch/>
        </p:blipFill>
        <p:spPr>
          <a:xfrm rot="20256600">
            <a:off x="2419200" y="896400"/>
            <a:ext cx="843300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Up Arrow 10"/>
          <p:cNvSpPr/>
          <p:nvPr/>
        </p:nvSpPr>
        <p:spPr>
          <a:xfrm>
            <a:off x="289080" y="1789200"/>
            <a:ext cx="2766960" cy="2549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11"/>
          <p:cNvSpPr/>
          <p:nvPr/>
        </p:nvSpPr>
        <p:spPr>
          <a:xfrm>
            <a:off x="1874880" y="3332160"/>
            <a:ext cx="2900160" cy="2216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41240" y="74448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oice we make has an impact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858960" y="2389320"/>
            <a:ext cx="15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positive, increase our handprint, and help 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27200" y="5729400"/>
            <a:ext cx="3708360" cy="459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is up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527200" y="3373560"/>
            <a:ext cx="154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negative and increase our footprint and our impact on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us.jpg"/>
          <p:cNvPicPr/>
          <p:nvPr/>
        </p:nvPicPr>
        <p:blipFill>
          <a:blip r:embed="rId1"/>
          <a:stretch/>
        </p:blipFill>
        <p:spPr>
          <a:xfrm>
            <a:off x="779400" y="1093680"/>
            <a:ext cx="6654960" cy="4432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9680" y="403200"/>
            <a:ext cx="8509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ide the bus instead of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upport a mass-transit system, as well as reducing emi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20:05:31Z</dcterms:created>
  <dc:creator>mullein</dc:creator>
  <dc:description/>
  <dc:language>en-US</dc:language>
  <cp:lastModifiedBy>mullein</cp:lastModifiedBy>
  <dcterms:modified xsi:type="dcterms:W3CDTF">2010-12-20T21:31:05Z</dcterms:modified>
  <cp:revision>7</cp:revision>
  <dc:subject/>
  <dc:title>EcoHandprint</dc:title>
</cp:coreProperties>
</file>